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5CC-7348-4FD5-A814-BB91CC2B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86A-A92E-4F43-8675-3CCBE6D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9A8-6DDE-40B2-BA22-6E5C7C7C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F4C-309D-48A9-844D-34BB5799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53A-0307-4188-9140-C46D224D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B76-8719-4F6C-B2B6-FA110108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E28-7A72-4489-B6ED-2D40C4E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782-966D-4C13-808B-7ABE9489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064-4E31-4042-B7E5-4E6FAFDD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E3C-4D0F-43F8-AE03-E5B8FD3E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0FD-0092-4C82-9D7F-1D81C66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FB2-ABE2-4C36-9973-987792BE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9A15-1264-4DD1-A7E0-E8E1C7F2AA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olland_Marsh" TargetMode="External"/><Relationship Id="rId2" Type="http://schemas.openxmlformats.org/officeDocument/2006/relationships/hyperlink" Target="http://www.icangarden.com/" TargetMode="External"/><Relationship Id="rId3" Type="http://schemas.openxmlformats.org/officeDocument/2006/relationships/hyperlink" Target="http://www.megawhat.ca/" TargetMode="External"/><Relationship Id="rId4" Type="http://schemas.openxmlformats.org/officeDocument/2006/relationships/hyperlink" Target="http://www.thecanadianencylopedia.com/" TargetMode="External"/><Relationship Id="rId5" Type="http://schemas.openxmlformats.org/officeDocument/2006/relationships/hyperlink" Target="http://www.king.ca/BUSINESS/PublishingImages/hollandmarsh.jpg" TargetMode="External"/><Relationship Id="rId6" Type="http://schemas.openxmlformats.org/officeDocument/2006/relationships/hyperlink" Target="http://3.bp.blogspot.com/_ZoUcEpLEgn4/S7qHPzc3JGI/AAAAAAAAALA/jlAOvAZ4pcg/s1600/3969106027_23105e4217.jpg" TargetMode="External"/><Relationship Id="rId7" Type="http://schemas.openxmlformats.org/officeDocument/2006/relationships/hyperlink" Target="http://www.sciencedaily.com/releases/2007/08/070813162438.htm" TargetMode="External"/><Relationship Id="rId8" Type="http://schemas.openxmlformats.org/officeDocument/2006/relationships/hyperlink" Target="http://www.hollandmarshgold.com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Holland Marsh, Bradford West Gwillimbu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lland Marsh Eco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Alex 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3969106027_23105e4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2900 ha of organic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Located near Bradford and West Gwillumb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50 km North of To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unded by 18 Dutch families in the 193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fairly well protected part of the Green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hollandmar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rsh is mostly used for Market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human impact, the Holland marsh would have little 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ps reflect the waves of immigration into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w is mostly corporately 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lso known as “Ontario’s salad bow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land Marsh generates hundreds of millions of dollars worth of vegetables ann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Contains 34 types of vegetables over 7,300 hectares of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OURMAR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lans for a new power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0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new gas-fire generator would be very in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leak out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ght destroy the mar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MEGA_3"/>
          <p:cNvPicPr/>
          <p:nvPr/>
        </p:nvPicPr>
        <p:blipFill>
          <a:blip r:embed="rId1"/>
          <a:stretch/>
        </p:blipFill>
        <p:spPr>
          <a:xfrm>
            <a:off x="152280" y="3733920"/>
            <a:ext cx="8991720" cy="2606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727360" y="417600"/>
            <a:ext cx="40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h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296160" y="21337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the plant from being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olland_Mar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cangard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gawhat.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st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hecanadianencyloped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ing.ca/BUSINESS/PublishingImages/hollandmarsh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3.bp.blogspot.com/_ZoUcEpLEgn4/S7qHPzc3JGI/AAAAAAAAALA/jlAOvAZ4pcg/s1600/3969106027_23105e421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ciencedaily.com/releases/2007/08/07081316243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hollandmarshgol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rkregion.com/news/article/626463--holland-marsh-worth-169m-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hecalloftheland.wordpress.com/2009/04/27/when-your-garden-runneth-over-veggie-trader/vegetabl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ossfitoakland.com/archive/200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3:16:51Z</dcterms:created>
  <dc:creator>User</dc:creator>
  <dc:description/>
  <dc:language>en-US</dc:language>
  <cp:lastModifiedBy>Alex Fung</cp:lastModifiedBy>
  <dcterms:modified xsi:type="dcterms:W3CDTF">2010-10-19T03:30:27Z</dcterms:modified>
  <cp:revision>14</cp:revision>
  <dc:subject/>
  <dc:title>Holland Marsh Ecosystem</dc:title>
</cp:coreProperties>
</file>